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1.png" ContentType="image/png"/>
  <Override PartName="/ppt/media/image18.gif" ContentType="image/gif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8C4-97E4-43C4-ACD6-55A325AA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B3B-FC9B-4D19-943F-D77D9FDB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1F2-316B-44A8-B20F-295F168E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A71-9E47-4CB7-822D-D08180DC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3A5-9903-4059-9FB5-3565D6BB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F5B-CE11-4A62-B413-10CD13AA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BE4-BB4F-4F91-AB4E-CBE65010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600-B2B6-4A6E-83B1-472B86F4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5FFA-DF3C-4931-AC6E-01C49FF4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763-9A7D-4024-84A5-A79FD0C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F08-B5CD-434A-853E-87C686F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208-8B88-43A6-942E-1C0E78B3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2A03-89F2-42D5-A18E-DE24093885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219320"/>
            <a:ext cx="7696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荣辱牢记心中</a:t>
            </a:r>
            <a:endParaRPr b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41148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—</a:t>
            </a: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6</a:t>
            </a: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班“八荣八耻”学习活动阶段小结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 rot="5400000">
            <a:off x="7542000" y="5408640"/>
            <a:ext cx="20602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黄队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830240" y="30492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、总书记在看望出席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的委员时明确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出，要引导广大干部群众特别是青少年树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社会主义荣辱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228600" y="5410080"/>
            <a:ext cx="2209680" cy="121932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1981080"/>
            <a:ext cx="60721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国政协十届四次会议  </a:t>
            </a:r>
            <a:br>
              <a:rPr sz="4000"/>
            </a:b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 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39400" y="2743200"/>
            <a:ext cx="536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、小明在学校经常向老师递交各种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证，检讨，却从来没下决心改正自己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错误，他的行为对吗？体现了什么荣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2320" y="4861080"/>
            <a:ext cx="42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对，我们要以诚实守信为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98800" y="53352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说两件班级体现荣辱的事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9960" y="2438280"/>
            <a:ext cx="54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“八荣八耻”的基本要求是什么？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2960" y="3429000"/>
            <a:ext cx="80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爱祖国、爱劳动、爱科学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爱社会主义为基本要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228600" y="5410080"/>
            <a:ext cx="2209680" cy="121932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7389720" y="5106960"/>
            <a:ext cx="20602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c4b596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白队</a:t>
            </a:r>
            <a:endParaRPr b="1" lang="en-US" sz="1800" spc="1" strike="noStrike">
              <a:ln w="25560">
                <a:solidFill>
                  <a:srgbClr val="c4b596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64560" y="2590920"/>
            <a:ext cx="8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团结互助为荣、以损人利己为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25720" y="3809880"/>
            <a:ext cx="536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小明病了，小明的奶奶决定带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去庙里烧香求佛，求个药方，这种作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对吗？体现了什么荣辱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79132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崇尚科学为荣，以愚昧无知为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28600"/>
            <a:ext cx="81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 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为荣、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为耻。要提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急他人所需，帮他人所难的团结互助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神，人人关心和帮助他人，处处尊重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爱护他人。   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5181480" y="2057400"/>
            <a:ext cx="3200400" cy="167652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419040 h 1676520"/>
              <a:gd name="textAreaBottom" fmla="*/ 1626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蓝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1143000" y="2133720"/>
            <a:ext cx="3352680" cy="152388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380880 h 1523880"/>
              <a:gd name="textAreaBottom" fmla="*/ 14788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红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1219320" y="4495680"/>
            <a:ext cx="3124080" cy="167652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419040 h 1676520"/>
              <a:gd name="textAreaBottom" fmla="*/ 1626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黄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5410080" y="4343400"/>
            <a:ext cx="2895840" cy="1752480"/>
          </a:xfrm>
          <a:custGeom>
            <a:avLst/>
            <a:gdLst>
              <a:gd name="textAreaLeft" fmla="*/ 723960 w 2895840"/>
              <a:gd name="textAreaRight" fmla="*/ 2171880 w 2895840"/>
              <a:gd name="textAreaTop" fmla="*/ 438120 h 1752480"/>
              <a:gd name="textAreaBottom" fmla="*/ 17006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白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20" y="228600"/>
            <a:ext cx="3733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表演题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114300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时间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春天的中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051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地点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篮球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59092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人物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篮球队员，观众，一位捡垃圾的同学，阿姨，小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表演者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: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晏晓迪、刘建星、谭仕龙、彭韫慈、郭洁、       黎聪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6781680" y="5334120"/>
            <a:ext cx="1905120" cy="12952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0"/>
            <a:ext cx="3504960" cy="2438280"/>
          </a:xfrm>
          <a:custGeom>
            <a:avLst/>
            <a:gdLst>
              <a:gd name="textAreaLeft" fmla="*/ 876240 w 3504960"/>
              <a:gd name="textAreaRight" fmla="*/ 2628720 w 3504960"/>
              <a:gd name="textAreaTop" fmla="*/ 609480 h 2438280"/>
              <a:gd name="textAreaBottom" fmla="*/ 236628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红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52280"/>
            <a:ext cx="3124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表演情景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676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假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5909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地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家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32320"/>
            <a:ext cx="7924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人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哥哥，弟弟，妈妈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表演者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王亚龙、聂世雷、     甘运勇  吴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781680" y="5334120"/>
            <a:ext cx="1905120" cy="12952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52280"/>
            <a:ext cx="4038480" cy="259092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647640 h 2590920"/>
              <a:gd name="textAreaBottom" fmla="*/ 251424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黑体"/>
              </a:rPr>
              <a:t>蓝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15228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8000"/>
                  </a:srgbClr>
                </a:solidFill>
                <a:latin typeface="宋体"/>
              </a:rPr>
              <a:t>表演情景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8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1520"/>
            <a:ext cx="7848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下了第一节晚自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地点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厕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人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吸烟者、老师、正义的同学、胆小的同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表演者：</a:t>
            </a: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李浩、黎炳秋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1" lang="zh-CN" sz="4800" spc="-1" strike="noStrike">
                <a:solidFill>
                  <a:srgbClr val="ffcc00"/>
                </a:solidFill>
                <a:latin typeface="Arial"/>
              </a:rPr>
              <a:t>刘鹏、陈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617220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表演情景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80880"/>
            <a:ext cx="2895480" cy="167652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419040 h 1676520"/>
              <a:gd name="textAreaBottom" fmla="*/ 1626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黄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5562720"/>
            <a:ext cx="1905120" cy="12952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1519200"/>
            <a:ext cx="74678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时间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个星期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地点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某条大街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人物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同学，小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表演者：陈文星、周俊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张    闹、成欣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304920"/>
            <a:ext cx="3048120" cy="213336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533160 h 2133360"/>
              <a:gd name="textAreaBottom" fmla="*/ 207036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白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2280" y="15228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表演情景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5562720"/>
            <a:ext cx="1905120" cy="12952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下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600200" y="2133720"/>
            <a:ext cx="556272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抢答题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60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Are you ready ? Go 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914400"/>
            <a:ext cx="769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.</a:t>
            </a: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你说出中学生禁止进入的“三室一厅”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哪三室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哪一厅</a:t>
            </a: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5120" y="2895480"/>
            <a:ext cx="5257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游戏室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桌球室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网吧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歌舞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43200" y="152280"/>
            <a:ext cx="3733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比赛规则</a:t>
            </a:r>
            <a:endParaRPr b="1" lang="en-US" sz="1800" spc="1" strike="noStrike">
              <a:ln w="255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把班级分为红、蓝、黄、白四个队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每队选出一位代表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作为主答手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主答手在答题过程中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只有本队成员才能发言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其他队员不安静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取消此次比赛资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比赛一共分为四大部分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分别为必答题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表演题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抢答题和创意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cc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必答题每题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分；表演题每题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分；抢答题每题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分；创意题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分，最后加起来分数最多者为胜。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14479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、新民学校的校风是什么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3526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崇德、尚志、勤奋、创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10512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公民道德规范有哪些主要内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20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字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352680"/>
            <a:ext cx="818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爱国守法，明礼诚信，团结友善，勤俭自强，敬业奉献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2160" y="5253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14479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请说出四大文明古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42900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古巴比伦、古埃及、古代中国、古印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838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5.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请你说出新民学校的校训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8720" y="2757600"/>
            <a:ext cx="580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学做善人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学做真人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学做能人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5791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90440" y="594360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用“八荣八耻”的内容给这幅漫画取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 rot="5400000">
            <a:off x="5523840" y="2324160"/>
            <a:ext cx="518148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以好逸恶劳为耻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5720" cy="5943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90440" y="152280"/>
            <a:ext cx="2009160" cy="580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以团结互助为荣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66760" y="606420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用“八荣八耻”的内容给这幅漫画取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6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漫画解析：树立社会主义荣辱观(20)"/>
          <p:cNvPicPr/>
          <p:nvPr/>
        </p:nvPicPr>
        <p:blipFill>
          <a:blip r:embed="rId1"/>
          <a:stretch/>
        </p:blipFill>
        <p:spPr>
          <a:xfrm>
            <a:off x="0" y="0"/>
            <a:ext cx="7162920" cy="5867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88640" y="76320"/>
            <a:ext cx="2009160" cy="604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以损人利己为耻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66760" y="606420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用“八荣八耻”的内容给这幅漫画取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96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0680" y="5965920"/>
            <a:ext cx="892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请你谈谈看了这张照片的感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680" y="23623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以助人为乐为荣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以冷漠自私为耻！！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280" y="5410080"/>
            <a:ext cx="8763120" cy="6426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这是在江苏南京“全国医药保健品交易会”的现场，你想到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3200" y="2514600"/>
            <a:ext cx="88776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以爱护公共环境为荣</a:t>
            </a: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1" lang="zh-C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以破坏公共环境为耻</a:t>
            </a: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2517840"/>
            <a:ext cx="82296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在我们的班集体中，我们以……为荣。</a:t>
            </a:r>
            <a:endParaRPr b="1" lang="en-US" sz="40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4081320"/>
            <a:ext cx="8229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在我们的班集体中，我们以……为耻。</a:t>
            </a:r>
            <a:endParaRPr b="1" lang="en-US" sz="4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304920"/>
            <a:ext cx="6019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汉鼎简隶变"/>
              </a:rPr>
              <a:t>创意题</a:t>
            </a: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汉鼎简隶变"/>
              </a:rPr>
              <a:t>(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汉鼎简隶变"/>
              </a:rPr>
              <a:t>每组说出</a:t>
            </a: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汉鼎简隶变"/>
              </a:rPr>
              <a:t>2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汉鼎简隶变"/>
              </a:rPr>
              <a:t>个即得分）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汉鼎简隶变"/>
              <a:ea typeface="汉鼎简隶变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0" y="2057400"/>
            <a:ext cx="397188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开始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1752480" y="3657600"/>
            <a:ext cx="4953240" cy="12952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华文彩云"/>
                <a:ea typeface="华文彩云"/>
              </a:rPr>
              <a:t>ST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63440"/>
            <a:ext cx="7696440" cy="815292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以热爱班级为荣，以损害班级为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以关心同学为荣，以欺辱弱小为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以尊敬老师为荣，以顶撞老师为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以干净卫生为荣，以乱扔垃圾为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以文明礼貌为荣，以满口脏话为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以按时到校为荣，以迟到旷课为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以诚实自律为荣，以弄虚作假为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以刻苦学习为荣，以松散懒惰为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305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5400000">
            <a:off x="-1981440" y="281916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班级八荣八耻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590920" y="152280"/>
            <a:ext cx="4190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结束语</a:t>
            </a:r>
            <a:endParaRPr b="1" lang="en-US" sz="66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914400"/>
            <a:ext cx="8615160" cy="17024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行楷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作为新世纪的新一代，我们要远离耻辱，立志以热爱祖国、服务人民、崇尚科学、辛勤劳动、团结互助、诚实守信、遵纪守法、艰苦奋斗、勤奋学习、勇担责任为荣，为祖国腾飞、民族振兴而努力学习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8001000" y="5867280"/>
            <a:ext cx="1345320" cy="914400"/>
            <a:chOff x="8001000" y="5867280"/>
            <a:chExt cx="1345320" cy="914400"/>
          </a:xfrm>
        </p:grpSpPr>
        <p:sp>
          <p:nvSpPr>
            <p:cNvPr id="161" name=""/>
            <p:cNvSpPr/>
            <p:nvPr/>
          </p:nvSpPr>
          <p:spPr>
            <a:xfrm>
              <a:off x="9162720" y="5867280"/>
              <a:ext cx="183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001000" y="5867280"/>
              <a:ext cx="1176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 txBox="1"/>
          <p:nvPr/>
        </p:nvSpPr>
        <p:spPr>
          <a:xfrm>
            <a:off x="380880" y="2286000"/>
            <a:ext cx="85345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让我们一起唱响《八荣八耻》歌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828800" y="990720"/>
            <a:ext cx="4572000" cy="28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143000" y="5335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-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必答题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219320" y="1752480"/>
            <a:ext cx="6019560" cy="83844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红   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4800600"/>
            <a:ext cx="6095880" cy="83808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白   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666880"/>
            <a:ext cx="5791320" cy="83844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蓝    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3733920"/>
            <a:ext cx="5790960" cy="83808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黑体"/>
              </a:rPr>
              <a:t>黄    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社会主义荣辱观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出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882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胡锦涛 总书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16318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荣、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耻。民族精神的核心是爱国主义，爱国主义是推动我国社会历史前进的巨大力量，是各族人民共同的精神支柱，是激励全国人民团结奋斗的光辉旗帜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4251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自觉抵制反动、低级、荒诞、淫秽的    报刊、影视录象、音乐，做到“四不”，问：哪“四不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078600"/>
            <a:ext cx="5486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看、不听、不抄、不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162920" y="5791320"/>
            <a:ext cx="1981080" cy="91440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7505280" y="95256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红队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4104360" y="354960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热爱祖国为荣、以危害祖国为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505320"/>
            <a:ext cx="708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6019920" y="4952880"/>
            <a:ext cx="2971800" cy="16765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4300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八荣八耻”的核心内容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20968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人民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6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7541640" y="5182920"/>
            <a:ext cx="20606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c4b596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蓝队</a:t>
            </a:r>
            <a:endParaRPr b="1" lang="en-US" sz="1800" spc="1" strike="noStrike">
              <a:ln w="25560">
                <a:solidFill>
                  <a:srgbClr val="c4b596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1937520" y="22860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荣、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耻。法治和责任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念是现代社会的基本理念。遵纪守法是公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尽的社会责任和道德义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057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以遵纪守法为荣、以违法乱纪为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6800" y="2743200"/>
            <a:ext cx="42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荣辱观是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生观、价值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决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657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世界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3434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八荣八耻”的原则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4952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集体主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6320" y="5410080"/>
            <a:ext cx="2666880" cy="12193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0"/>
            <a:ext cx="86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286000"/>
            <a:ext cx="7543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7440" y="1219320"/>
            <a:ext cx="511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当有人约你去网吧玩网络游戏时，你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该怎么办？你的决定体现了什么荣辱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35268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拒绝。以尊纪守法为荣，以违法乱纪为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4952880"/>
            <a:ext cx="2971800" cy="16765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 rot="5400000">
            <a:off x="7542000" y="5335560"/>
            <a:ext cx="20602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黄队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"/>
          <p:cNvSpPr/>
          <p:nvPr/>
        </p:nvSpPr>
        <p:spPr>
          <a:xfrm>
            <a:off x="1876680" y="88920"/>
            <a:ext cx="583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、以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为荣、以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____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为耻。“艰难困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玉汝于成。”艰苦奋斗是我们民族的传统美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艰苦奋斗也是我们党的传家宝和政治本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889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艰苦奋斗为荣、以骄奢淫逸为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78960" y="2651040"/>
            <a:ext cx="404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、以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____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为荣、以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____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为耻。诚信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立身之本、发展之道。构建和谐社会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个人需要诚信，集体、社会需要诚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国家更需要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6386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诚实守信为荣、以见利忘义为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35:26Z</dcterms:modified>
  <cp:revision>1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